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E6D7-66F9-4106-A822-FD787D59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98FC-0DED-46AD-BABE-A17A615C80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C4E1-1129-4A78-8BA1-174F08CB84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C73-E8B7-40D4-B1B9-D658FB301D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065-BB8D-4A2B-9E6A-CC9AD476FE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0F9-EF50-4B34-9808-77A0DEA629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565-5712-4B43-B2EC-642F18C488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D270-3F11-497E-AB33-38852483B4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7C72-EA7E-4E06-B9C9-E9EE66AB4F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3653-03F9-4FD5-9F39-8E42733EDB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245-13A7-4E3A-982E-9F54F931D3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ED58-F6E7-40A1-9AA0-3C7DC6823B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CD4-78C0-48FE-A19D-E838722FEB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6549-0183-42BB-BD91-6199B5C8AE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96D1-7A3D-4D86-986C-83915B9D9F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694-3CB3-4397-A885-E7B7F26B12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31F-F357-43F1-BE51-20B22AC96E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C10-1A2A-4AAB-AD84-5B6C299B06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2E9D-2B29-44D0-A723-7DF5AE5D9B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F751-181B-417C-9615-6B731ABDD9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2390-74BE-470D-9A8D-CB6A9F6780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400-2D95-4830-98C1-A15318471E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D924-5C18-4D9A-A2DF-A34FB3EB26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043-0FF6-42ED-886C-081B1521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CDD-6DDD-47C1-814B-A229379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634-6D4A-4E42-9113-AA698F0D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B1D-036A-4354-B951-6AEFF53A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7BA0-649C-4C79-AA4A-C2A0F811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8A03-B7B9-4EA5-BA4D-90A13337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CD2D-AB29-4874-B905-99CB1DA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55EE-A387-4134-A754-C4BBC2EA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AFF2-86A6-49A2-9882-84CD913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E608-800A-41B4-B87D-FD9C091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A85-C6B5-4B69-996A-0CEDF3B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03D-5525-464E-BC5F-0F3BE38B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1E5-978E-4CB4-BC56-9C9DA6AE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9773-123A-4A0F-9C9B-93AA375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017-E30F-46DC-AA54-A69AD21C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C66-FC55-4E6E-8FE9-7BF720BA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88AC-9F12-4995-84F4-50D926A7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8B4-EC31-4D68-9A3D-C354B4FA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F65-16A3-42B9-8DDE-5CADEC38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8B7-9790-4E44-91D0-159DFB0A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532-146C-4F74-BB1A-4C36A98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6C5-A5E4-4D42-8066-A83C7D07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F64-5A41-4BAA-9C79-8BE45D2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88A-BCAD-4641-BF00-C4C05782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244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152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B3C5-DFE1-4970-9CDC-09F90A1C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933960" y="64008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45784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C483-910E-45EC-9432-2338DDDD6B7A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ffective Training: Systems, Strategies, and Practices, 4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Edition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Nick Blanchard and  James W. Th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45820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8-</a:t>
            </a:r>
            <a:fld id="{99222142-E4A1-41C6-AC3B-42E366D62385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0249E78F-5288-4D24-B898-604D8E7F29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2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2057400"/>
            <a:ext cx="5714640" cy="4667400"/>
            <a:chOff x="380880" y="2057400"/>
            <a:chExt cx="5714640" cy="4667400"/>
          </a:xfrm>
        </p:grpSpPr>
        <p:sp>
          <p:nvSpPr>
            <p:cNvPr id="209" name="Rectangle 4"/>
            <p:cNvSpPr/>
            <p:nvPr/>
          </p:nvSpPr>
          <p:spPr>
            <a:xfrm>
              <a:off x="434160" y="5943600"/>
              <a:ext cx="273960" cy="18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762480" y="5867280"/>
              <a:ext cx="14335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80880" y="6173640"/>
              <a:ext cx="203868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4025880" y="2057400"/>
              <a:ext cx="27396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4391280" y="2173320"/>
              <a:ext cx="410760" cy="280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040640" y="3006720"/>
              <a:ext cx="82188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4073040" y="3405240"/>
              <a:ext cx="730440" cy="282240"/>
              <a:chOff x="4073040" y="3405240"/>
              <a:chExt cx="730440" cy="282240"/>
            </a:xfrm>
          </p:grpSpPr>
          <p:sp>
            <p:nvSpPr>
              <p:cNvPr id="216" name="Oval 11"/>
              <p:cNvSpPr/>
              <p:nvPr/>
            </p:nvSpPr>
            <p:spPr>
              <a:xfrm>
                <a:off x="407304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Oval 12"/>
              <p:cNvSpPr/>
              <p:nvPr/>
            </p:nvSpPr>
            <p:spPr>
              <a:xfrm>
                <a:off x="452952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Rectangle 13"/>
            <p:cNvSpPr/>
            <p:nvPr/>
          </p:nvSpPr>
          <p:spPr>
            <a:xfrm>
              <a:off x="5274000" y="3006720"/>
              <a:ext cx="82152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4"/>
            <p:cNvGrpSpPr/>
            <p:nvPr/>
          </p:nvGrpSpPr>
          <p:grpSpPr>
            <a:xfrm>
              <a:off x="5306400" y="3405240"/>
              <a:ext cx="730440" cy="282240"/>
              <a:chOff x="5306400" y="3405240"/>
              <a:chExt cx="730440" cy="282240"/>
            </a:xfrm>
          </p:grpSpPr>
          <p:sp>
            <p:nvSpPr>
              <p:cNvPr id="220" name="Oval 15"/>
              <p:cNvSpPr/>
              <p:nvPr/>
            </p:nvSpPr>
            <p:spPr>
              <a:xfrm>
                <a:off x="530640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76288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2" name="Rectangle 17"/>
            <p:cNvSpPr/>
            <p:nvPr/>
          </p:nvSpPr>
          <p:spPr>
            <a:xfrm>
              <a:off x="2807640" y="3019320"/>
              <a:ext cx="821880" cy="28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2840400" y="3417840"/>
              <a:ext cx="273600" cy="281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3296880" y="3417840"/>
              <a:ext cx="273960" cy="281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4040640" y="4027320"/>
              <a:ext cx="821880" cy="28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" name="Group 21"/>
            <p:cNvGrpSpPr/>
            <p:nvPr/>
          </p:nvGrpSpPr>
          <p:grpSpPr>
            <a:xfrm>
              <a:off x="4073040" y="4425840"/>
              <a:ext cx="730440" cy="280800"/>
              <a:chOff x="4073040" y="4425840"/>
              <a:chExt cx="730440" cy="280800"/>
            </a:xfrm>
          </p:grpSpPr>
          <p:sp>
            <p:nvSpPr>
              <p:cNvPr id="227" name="Oval 22"/>
              <p:cNvSpPr/>
              <p:nvPr/>
            </p:nvSpPr>
            <p:spPr>
              <a:xfrm>
                <a:off x="407304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Oval 23"/>
              <p:cNvSpPr/>
              <p:nvPr/>
            </p:nvSpPr>
            <p:spPr>
              <a:xfrm>
                <a:off x="452952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9" name="Rectangle 24"/>
            <p:cNvSpPr/>
            <p:nvPr/>
          </p:nvSpPr>
          <p:spPr>
            <a:xfrm>
              <a:off x="5274000" y="4027320"/>
              <a:ext cx="821520" cy="28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" name="Group 25"/>
            <p:cNvGrpSpPr/>
            <p:nvPr/>
          </p:nvGrpSpPr>
          <p:grpSpPr>
            <a:xfrm>
              <a:off x="5306400" y="4425840"/>
              <a:ext cx="730440" cy="280800"/>
              <a:chOff x="5306400" y="4425840"/>
              <a:chExt cx="730440" cy="280800"/>
            </a:xfrm>
          </p:grpSpPr>
          <p:sp>
            <p:nvSpPr>
              <p:cNvPr id="231" name="Oval 26"/>
              <p:cNvSpPr/>
              <p:nvPr/>
            </p:nvSpPr>
            <p:spPr>
              <a:xfrm>
                <a:off x="530640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Oval 27"/>
              <p:cNvSpPr/>
              <p:nvPr/>
            </p:nvSpPr>
            <p:spPr>
              <a:xfrm>
                <a:off x="576288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3" name="Rectangle 28"/>
            <p:cNvSpPr/>
            <p:nvPr/>
          </p:nvSpPr>
          <p:spPr>
            <a:xfrm>
              <a:off x="2807640" y="4038480"/>
              <a:ext cx="82188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2840400" y="4437000"/>
              <a:ext cx="729720" cy="282240"/>
              <a:chOff x="2840400" y="4437000"/>
              <a:chExt cx="729720" cy="282240"/>
            </a:xfrm>
          </p:grpSpPr>
          <p:sp>
            <p:nvSpPr>
              <p:cNvPr id="235" name="Oval 30"/>
              <p:cNvSpPr/>
              <p:nvPr/>
            </p:nvSpPr>
            <p:spPr>
              <a:xfrm>
                <a:off x="2840400" y="443700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31"/>
              <p:cNvSpPr/>
              <p:nvPr/>
            </p:nvSpPr>
            <p:spPr>
              <a:xfrm>
                <a:off x="3296520" y="443700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" name="Rectangle 32"/>
            <p:cNvSpPr/>
            <p:nvPr/>
          </p:nvSpPr>
          <p:spPr>
            <a:xfrm>
              <a:off x="4040640" y="5024520"/>
              <a:ext cx="821880" cy="28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" name="Group 33"/>
            <p:cNvGrpSpPr/>
            <p:nvPr/>
          </p:nvGrpSpPr>
          <p:grpSpPr>
            <a:xfrm>
              <a:off x="4073040" y="5423040"/>
              <a:ext cx="730440" cy="280440"/>
              <a:chOff x="4073040" y="5423040"/>
              <a:chExt cx="730440" cy="280440"/>
            </a:xfrm>
          </p:grpSpPr>
          <p:sp>
            <p:nvSpPr>
              <p:cNvPr id="239" name="Oval 34"/>
              <p:cNvSpPr/>
              <p:nvPr/>
            </p:nvSpPr>
            <p:spPr>
              <a:xfrm>
                <a:off x="407304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Oval 35"/>
              <p:cNvSpPr/>
              <p:nvPr/>
            </p:nvSpPr>
            <p:spPr>
              <a:xfrm>
                <a:off x="452952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" name="Rectangle 36"/>
            <p:cNvSpPr/>
            <p:nvPr/>
          </p:nvSpPr>
          <p:spPr>
            <a:xfrm>
              <a:off x="5274000" y="5024520"/>
              <a:ext cx="821520" cy="28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37"/>
            <p:cNvGrpSpPr/>
            <p:nvPr/>
          </p:nvGrpSpPr>
          <p:grpSpPr>
            <a:xfrm>
              <a:off x="5306400" y="5423040"/>
              <a:ext cx="730440" cy="280440"/>
              <a:chOff x="5306400" y="5423040"/>
              <a:chExt cx="730440" cy="280440"/>
            </a:xfrm>
          </p:grpSpPr>
          <p:sp>
            <p:nvSpPr>
              <p:cNvPr id="243" name="Oval 38"/>
              <p:cNvSpPr/>
              <p:nvPr/>
            </p:nvSpPr>
            <p:spPr>
              <a:xfrm>
                <a:off x="530640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Oval 39"/>
              <p:cNvSpPr/>
              <p:nvPr/>
            </p:nvSpPr>
            <p:spPr>
              <a:xfrm>
                <a:off x="576288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" name="Rectangle 40"/>
            <p:cNvSpPr/>
            <p:nvPr/>
          </p:nvSpPr>
          <p:spPr>
            <a:xfrm>
              <a:off x="2807640" y="5035680"/>
              <a:ext cx="82188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" name="Group 41"/>
            <p:cNvGrpSpPr/>
            <p:nvPr/>
          </p:nvGrpSpPr>
          <p:grpSpPr>
            <a:xfrm>
              <a:off x="2840400" y="5433840"/>
              <a:ext cx="729720" cy="282240"/>
              <a:chOff x="2840400" y="5433840"/>
              <a:chExt cx="729720" cy="282240"/>
            </a:xfrm>
          </p:grpSpPr>
          <p:sp>
            <p:nvSpPr>
              <p:cNvPr id="247" name="Oval 42"/>
              <p:cNvSpPr/>
              <p:nvPr/>
            </p:nvSpPr>
            <p:spPr>
              <a:xfrm>
                <a:off x="2840400" y="543384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Oval 43"/>
              <p:cNvSpPr/>
              <p:nvPr/>
            </p:nvSpPr>
            <p:spPr>
              <a:xfrm>
                <a:off x="3296520" y="543384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9" name="Text Box 44"/>
            <p:cNvSpPr/>
            <p:nvPr/>
          </p:nvSpPr>
          <p:spPr>
            <a:xfrm>
              <a:off x="4063680" y="5880240"/>
              <a:ext cx="8215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006A9CA-071B-49F8-89AD-E411B91D0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3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457200" y="2304000"/>
            <a:ext cx="5791320" cy="4401720"/>
            <a:chOff x="457200" y="2304000"/>
            <a:chExt cx="5791320" cy="4401720"/>
          </a:xfrm>
        </p:grpSpPr>
        <p:sp>
          <p:nvSpPr>
            <p:cNvPr id="254" name="Rectangle 4"/>
            <p:cNvSpPr/>
            <p:nvPr/>
          </p:nvSpPr>
          <p:spPr>
            <a:xfrm>
              <a:off x="457200" y="5943600"/>
              <a:ext cx="32688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838080" y="5867280"/>
              <a:ext cx="1486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4116240" y="5157720"/>
              <a:ext cx="327240" cy="312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3548160" y="2948040"/>
              <a:ext cx="2290680" cy="218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5570640" y="2970360"/>
              <a:ext cx="32688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5916600" y="3543480"/>
              <a:ext cx="32688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5921280" y="4237200"/>
              <a:ext cx="32724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5565600" y="4809960"/>
              <a:ext cx="328680" cy="312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4929120" y="5175360"/>
              <a:ext cx="32868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 rot="20700000">
              <a:off x="3125880" y="2361960"/>
              <a:ext cx="490320" cy="3124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 rot="10800000">
              <a:off x="3472920" y="4800600"/>
              <a:ext cx="327240" cy="3110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2743200" y="2771640"/>
              <a:ext cx="32688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094280" y="5767560"/>
              <a:ext cx="981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3140FA8A-7EE1-45AA-8D13-5FBA2D2933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4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533520" y="2209680"/>
            <a:ext cx="5867280" cy="4419720"/>
            <a:chOff x="533520" y="2209680"/>
            <a:chExt cx="5867280" cy="4419720"/>
          </a:xfrm>
        </p:grpSpPr>
        <p:sp>
          <p:nvSpPr>
            <p:cNvPr id="272" name="Rectangle 4"/>
            <p:cNvSpPr/>
            <p:nvPr/>
          </p:nvSpPr>
          <p:spPr>
            <a:xfrm>
              <a:off x="585720" y="5943600"/>
              <a:ext cx="274680" cy="18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Text Box 5"/>
            <p:cNvSpPr/>
            <p:nvPr/>
          </p:nvSpPr>
          <p:spPr>
            <a:xfrm>
              <a:off x="914400" y="5867280"/>
              <a:ext cx="1409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4233960" y="5846760"/>
              <a:ext cx="7444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3344760" y="5033880"/>
              <a:ext cx="248472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118040" y="50338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4946760" y="50338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 rot="5400000">
              <a:off x="4630680" y="3876480"/>
              <a:ext cx="260820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Line 12"/>
            <p:cNvSpPr/>
            <p:nvPr/>
          </p:nvSpPr>
          <p:spPr>
            <a:xfrm flipH="1">
              <a:off x="5808240" y="350676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 flipH="1">
              <a:off x="5808240" y="437688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4"/>
            <p:cNvSpPr/>
            <p:nvPr/>
          </p:nvSpPr>
          <p:spPr>
            <a:xfrm rot="5400000">
              <a:off x="1935720" y="3877200"/>
              <a:ext cx="26082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 flipH="1">
              <a:off x="3114720" y="3506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Line 16"/>
            <p:cNvSpPr/>
            <p:nvPr/>
          </p:nvSpPr>
          <p:spPr>
            <a:xfrm flipH="1">
              <a:off x="3114720" y="4376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17"/>
            <p:cNvSpPr/>
            <p:nvPr/>
          </p:nvSpPr>
          <p:spPr>
            <a:xfrm>
              <a:off x="4219560" y="5430960"/>
              <a:ext cx="24912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>
              <a:off x="4633920" y="5430960"/>
              <a:ext cx="24912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>
              <a:off x="506268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Oval 20"/>
            <p:cNvSpPr/>
            <p:nvPr/>
          </p:nvSpPr>
          <p:spPr>
            <a:xfrm>
              <a:off x="546264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Oval 21"/>
            <p:cNvSpPr/>
            <p:nvPr/>
          </p:nvSpPr>
          <p:spPr>
            <a:xfrm>
              <a:off x="343368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Oval 22"/>
            <p:cNvSpPr/>
            <p:nvPr/>
          </p:nvSpPr>
          <p:spPr>
            <a:xfrm>
              <a:off x="3833640" y="5430960"/>
              <a:ext cx="2494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Oval 23"/>
            <p:cNvSpPr/>
            <p:nvPr/>
          </p:nvSpPr>
          <p:spPr>
            <a:xfrm>
              <a:off x="5837400" y="5415120"/>
              <a:ext cx="24732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Oval 24"/>
            <p:cNvSpPr/>
            <p:nvPr/>
          </p:nvSpPr>
          <p:spPr>
            <a:xfrm>
              <a:off x="307512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25"/>
            <p:cNvSpPr/>
            <p:nvPr/>
          </p:nvSpPr>
          <p:spPr>
            <a:xfrm rot="5400000">
              <a:off x="2736720" y="32241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Oval 26"/>
            <p:cNvSpPr/>
            <p:nvPr/>
          </p:nvSpPr>
          <p:spPr>
            <a:xfrm rot="5400000">
              <a:off x="2736000" y="3658320"/>
              <a:ext cx="2620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Oval 27"/>
            <p:cNvSpPr/>
            <p:nvPr/>
          </p:nvSpPr>
          <p:spPr>
            <a:xfrm rot="5400000">
              <a:off x="2736000" y="4107600"/>
              <a:ext cx="2620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 rot="5400000">
              <a:off x="2736720" y="45273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 rot="5400000">
              <a:off x="2736720" y="281772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 rot="5400000">
              <a:off x="2752560" y="492120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1"/>
            <p:cNvSpPr/>
            <p:nvPr/>
          </p:nvSpPr>
          <p:spPr>
            <a:xfrm rot="5400000">
              <a:off x="6130800" y="32367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Oval 32"/>
            <p:cNvSpPr/>
            <p:nvPr/>
          </p:nvSpPr>
          <p:spPr>
            <a:xfrm rot="5400000">
              <a:off x="6130080" y="3670920"/>
              <a:ext cx="26172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Oval 33"/>
            <p:cNvSpPr/>
            <p:nvPr/>
          </p:nvSpPr>
          <p:spPr>
            <a:xfrm rot="5400000">
              <a:off x="6130080" y="4120200"/>
              <a:ext cx="26172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34"/>
            <p:cNvSpPr/>
            <p:nvPr/>
          </p:nvSpPr>
          <p:spPr>
            <a:xfrm rot="5400000">
              <a:off x="6130800" y="45399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35"/>
            <p:cNvSpPr/>
            <p:nvPr/>
          </p:nvSpPr>
          <p:spPr>
            <a:xfrm rot="5400000">
              <a:off x="6130800" y="283032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36"/>
            <p:cNvSpPr/>
            <p:nvPr/>
          </p:nvSpPr>
          <p:spPr>
            <a:xfrm rot="5400000">
              <a:off x="6146640" y="493380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37"/>
            <p:cNvSpPr/>
            <p:nvPr/>
          </p:nvSpPr>
          <p:spPr>
            <a:xfrm>
              <a:off x="3824280" y="2209680"/>
              <a:ext cx="249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38"/>
            <p:cNvSpPr/>
            <p:nvPr/>
          </p:nvSpPr>
          <p:spPr>
            <a:xfrm>
              <a:off x="4403880" y="2316240"/>
              <a:ext cx="372960" cy="261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9"/>
            <p:cNvSpPr/>
            <p:nvPr/>
          </p:nvSpPr>
          <p:spPr>
            <a:xfrm>
              <a:off x="5033880" y="2209680"/>
              <a:ext cx="24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7E812543-E794-4678-9F2B-61F86ED749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5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533520" y="2057400"/>
            <a:ext cx="7010280" cy="4572000"/>
            <a:chOff x="533520" y="2057400"/>
            <a:chExt cx="7010280" cy="4572000"/>
          </a:xfrm>
        </p:grpSpPr>
        <p:sp>
          <p:nvSpPr>
            <p:cNvPr id="312" name="Rectangle 4"/>
            <p:cNvSpPr/>
            <p:nvPr/>
          </p:nvSpPr>
          <p:spPr>
            <a:xfrm>
              <a:off x="585720" y="5943600"/>
              <a:ext cx="274680" cy="18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5"/>
            <p:cNvSpPr/>
            <p:nvPr/>
          </p:nvSpPr>
          <p:spPr>
            <a:xfrm>
              <a:off x="838080" y="5867280"/>
              <a:ext cx="1486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Text Box 7"/>
            <p:cNvSpPr/>
            <p:nvPr/>
          </p:nvSpPr>
          <p:spPr>
            <a:xfrm>
              <a:off x="4397400" y="2057400"/>
              <a:ext cx="1922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8"/>
            <p:cNvSpPr/>
            <p:nvPr/>
          </p:nvSpPr>
          <p:spPr>
            <a:xfrm rot="2700000">
              <a:off x="3997800" y="532692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9"/>
            <p:cNvSpPr/>
            <p:nvPr/>
          </p:nvSpPr>
          <p:spPr>
            <a:xfrm rot="2700000">
              <a:off x="4176360" y="4349520"/>
              <a:ext cx="1249560" cy="135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 rot="2700000">
              <a:off x="5517000" y="4929840"/>
              <a:ext cx="1796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Oval 11"/>
            <p:cNvSpPr/>
            <p:nvPr/>
          </p:nvSpPr>
          <p:spPr>
            <a:xfrm rot="2700000">
              <a:off x="5398920" y="531468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 rot="2700000">
              <a:off x="5094360" y="5621040"/>
              <a:ext cx="179640" cy="192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13"/>
            <p:cNvSpPr/>
            <p:nvPr/>
          </p:nvSpPr>
          <p:spPr>
            <a:xfrm rot="2700000">
              <a:off x="4708440" y="573372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14"/>
            <p:cNvSpPr/>
            <p:nvPr/>
          </p:nvSpPr>
          <p:spPr>
            <a:xfrm rot="2700000">
              <a:off x="4303800" y="564804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 rot="13500000">
              <a:off x="3906000" y="492156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Oval 16"/>
            <p:cNvSpPr/>
            <p:nvPr/>
          </p:nvSpPr>
          <p:spPr>
            <a:xfrm>
              <a:off x="6283440" y="391968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7"/>
            <p:cNvSpPr/>
            <p:nvPr/>
          </p:nvSpPr>
          <p:spPr>
            <a:xfrm>
              <a:off x="5948280" y="2657520"/>
              <a:ext cx="1354320" cy="12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7143840" y="267012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19"/>
            <p:cNvSpPr/>
            <p:nvPr/>
          </p:nvSpPr>
          <p:spPr>
            <a:xfrm>
              <a:off x="7346880" y="299736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0"/>
            <p:cNvSpPr/>
            <p:nvPr/>
          </p:nvSpPr>
          <p:spPr>
            <a:xfrm>
              <a:off x="7350120" y="339408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7140600" y="3720960"/>
              <a:ext cx="193680" cy="179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2"/>
            <p:cNvSpPr/>
            <p:nvPr/>
          </p:nvSpPr>
          <p:spPr>
            <a:xfrm>
              <a:off x="6764400" y="393048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3"/>
            <p:cNvSpPr/>
            <p:nvPr/>
          </p:nvSpPr>
          <p:spPr>
            <a:xfrm rot="10800000">
              <a:off x="5904000" y="371484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83440" y="5708520"/>
              <a:ext cx="193680" cy="179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Oval 25"/>
            <p:cNvSpPr/>
            <p:nvPr/>
          </p:nvSpPr>
          <p:spPr>
            <a:xfrm>
              <a:off x="5948280" y="4446720"/>
              <a:ext cx="1354320" cy="12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Oval 26"/>
            <p:cNvSpPr/>
            <p:nvPr/>
          </p:nvSpPr>
          <p:spPr>
            <a:xfrm>
              <a:off x="7143840" y="445932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7346880" y="4786200"/>
              <a:ext cx="193680" cy="179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Oval 28"/>
            <p:cNvSpPr/>
            <p:nvPr/>
          </p:nvSpPr>
          <p:spPr>
            <a:xfrm>
              <a:off x="7350120" y="518328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Oval 29"/>
            <p:cNvSpPr/>
            <p:nvPr/>
          </p:nvSpPr>
          <p:spPr>
            <a:xfrm>
              <a:off x="7140600" y="551016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Oval 30"/>
            <p:cNvSpPr/>
            <p:nvPr/>
          </p:nvSpPr>
          <p:spPr>
            <a:xfrm>
              <a:off x="6764400" y="571968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Oval 31"/>
            <p:cNvSpPr/>
            <p:nvPr/>
          </p:nvSpPr>
          <p:spPr>
            <a:xfrm rot="10800000">
              <a:off x="5904000" y="550404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Oval 32"/>
            <p:cNvSpPr/>
            <p:nvPr/>
          </p:nvSpPr>
          <p:spPr>
            <a:xfrm rot="4800000">
              <a:off x="1942200" y="487728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Oval 33"/>
            <p:cNvSpPr/>
            <p:nvPr/>
          </p:nvSpPr>
          <p:spPr>
            <a:xfrm rot="4800000">
              <a:off x="2220480" y="4383000"/>
              <a:ext cx="1249200" cy="135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Oval 34"/>
            <p:cNvSpPr/>
            <p:nvPr/>
          </p:nvSpPr>
          <p:spPr>
            <a:xfrm rot="4800000">
              <a:off x="3413880" y="542340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35"/>
            <p:cNvSpPr/>
            <p:nvPr/>
          </p:nvSpPr>
          <p:spPr>
            <a:xfrm rot="4800000">
              <a:off x="3097080" y="5670360"/>
              <a:ext cx="1774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36"/>
            <p:cNvSpPr/>
            <p:nvPr/>
          </p:nvSpPr>
          <p:spPr>
            <a:xfrm rot="4800000">
              <a:off x="2673000" y="5748120"/>
              <a:ext cx="179640" cy="192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37"/>
            <p:cNvSpPr/>
            <p:nvPr/>
          </p:nvSpPr>
          <p:spPr>
            <a:xfrm rot="4800000">
              <a:off x="2292120" y="561924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Oval 38"/>
            <p:cNvSpPr/>
            <p:nvPr/>
          </p:nvSpPr>
          <p:spPr>
            <a:xfrm rot="4800000">
              <a:off x="2009520" y="531612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Oval 39"/>
            <p:cNvSpPr/>
            <p:nvPr/>
          </p:nvSpPr>
          <p:spPr>
            <a:xfrm rot="15600000">
              <a:off x="2099160" y="449352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Oval 40"/>
            <p:cNvSpPr/>
            <p:nvPr/>
          </p:nvSpPr>
          <p:spPr>
            <a:xfrm rot="4800000">
              <a:off x="1936080" y="308340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41"/>
            <p:cNvSpPr/>
            <p:nvPr/>
          </p:nvSpPr>
          <p:spPr>
            <a:xfrm rot="4800000">
              <a:off x="2214360" y="2589120"/>
              <a:ext cx="1249200" cy="135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42"/>
            <p:cNvSpPr/>
            <p:nvPr/>
          </p:nvSpPr>
          <p:spPr>
            <a:xfrm rot="4800000">
              <a:off x="3407760" y="362952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43"/>
            <p:cNvSpPr/>
            <p:nvPr/>
          </p:nvSpPr>
          <p:spPr>
            <a:xfrm rot="4800000">
              <a:off x="3090960" y="3876480"/>
              <a:ext cx="1774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Oval 44"/>
            <p:cNvSpPr/>
            <p:nvPr/>
          </p:nvSpPr>
          <p:spPr>
            <a:xfrm rot="4800000">
              <a:off x="2666520" y="3954600"/>
              <a:ext cx="179640" cy="1918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Oval 45"/>
            <p:cNvSpPr/>
            <p:nvPr/>
          </p:nvSpPr>
          <p:spPr>
            <a:xfrm rot="4800000">
              <a:off x="2285640" y="382536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Oval 46"/>
            <p:cNvSpPr/>
            <p:nvPr/>
          </p:nvSpPr>
          <p:spPr>
            <a:xfrm rot="4800000">
              <a:off x="2003040" y="352224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47"/>
            <p:cNvSpPr/>
            <p:nvPr/>
          </p:nvSpPr>
          <p:spPr>
            <a:xfrm rot="15600000">
              <a:off x="2092680" y="269964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4654440" y="2130480"/>
              <a:ext cx="290520" cy="179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49"/>
            <p:cNvSpPr/>
            <p:nvPr/>
          </p:nvSpPr>
          <p:spPr>
            <a:xfrm>
              <a:off x="5059440" y="2057400"/>
              <a:ext cx="1936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Text Box 50"/>
            <p:cNvSpPr/>
            <p:nvPr/>
          </p:nvSpPr>
          <p:spPr>
            <a:xfrm>
              <a:off x="4530600" y="6093000"/>
              <a:ext cx="579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96A01CC2-00BB-4A49-BCD9-DC688ECE3B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6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533520" y="2133720"/>
            <a:ext cx="6498360" cy="4343400"/>
            <a:chOff x="533520" y="2133720"/>
            <a:chExt cx="6498360" cy="4343400"/>
          </a:xfrm>
        </p:grpSpPr>
        <p:sp>
          <p:nvSpPr>
            <p:cNvPr id="363" name="Text Box 4"/>
            <p:cNvSpPr/>
            <p:nvPr/>
          </p:nvSpPr>
          <p:spPr>
            <a:xfrm>
              <a:off x="914400" y="5867280"/>
              <a:ext cx="1409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Text Box 5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6"/>
            <p:cNvSpPr/>
            <p:nvPr/>
          </p:nvSpPr>
          <p:spPr>
            <a:xfrm rot="5400000">
              <a:off x="4219200" y="483408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7"/>
            <p:cNvSpPr/>
            <p:nvPr/>
          </p:nvSpPr>
          <p:spPr>
            <a:xfrm rot="4200000">
              <a:off x="6084720" y="4843080"/>
              <a:ext cx="577800" cy="20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 rot="6600000">
              <a:off x="2555280" y="483840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 rot="4200000">
              <a:off x="4919040" y="388152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"/>
            <p:cNvSpPr/>
            <p:nvPr/>
          </p:nvSpPr>
          <p:spPr>
            <a:xfrm rot="4200000">
              <a:off x="6290640" y="366228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 rot="6600000">
              <a:off x="2183760" y="367164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 rot="6600000">
              <a:off x="3471120" y="388440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4129200" y="2133720"/>
              <a:ext cx="20628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3" name="Group 14"/>
            <p:cNvGrpSpPr/>
            <p:nvPr/>
          </p:nvGrpSpPr>
          <p:grpSpPr>
            <a:xfrm>
              <a:off x="585720" y="2212920"/>
              <a:ext cx="6446160" cy="3913200"/>
              <a:chOff x="585720" y="2212920"/>
              <a:chExt cx="6446160" cy="3913200"/>
            </a:xfrm>
          </p:grpSpPr>
          <p:sp>
            <p:nvSpPr>
              <p:cNvPr id="374" name="Rectangle 15"/>
              <p:cNvSpPr/>
              <p:nvPr/>
            </p:nvSpPr>
            <p:spPr>
              <a:xfrm>
                <a:off x="585720" y="5943600"/>
                <a:ext cx="274680" cy="182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5" name="Group 16"/>
              <p:cNvGrpSpPr/>
              <p:nvPr/>
            </p:nvGrpSpPr>
            <p:grpSpPr>
              <a:xfrm>
                <a:off x="4135320" y="4691160"/>
                <a:ext cx="206640" cy="512280"/>
                <a:chOff x="4135320" y="4691160"/>
                <a:chExt cx="206640" cy="512280"/>
              </a:xfrm>
            </p:grpSpPr>
            <p:sp>
              <p:nvSpPr>
                <p:cNvPr id="376" name="Oval 17"/>
                <p:cNvSpPr/>
                <p:nvPr/>
              </p:nvSpPr>
              <p:spPr>
                <a:xfrm rot="5400000">
                  <a:off x="4142520" y="468396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7" name="Oval 18"/>
                <p:cNvSpPr/>
                <p:nvPr/>
              </p:nvSpPr>
              <p:spPr>
                <a:xfrm rot="5400000">
                  <a:off x="4142520" y="500400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8" name="Oval 19"/>
              <p:cNvSpPr/>
              <p:nvPr/>
            </p:nvSpPr>
            <p:spPr>
              <a:xfrm rot="5400000">
                <a:off x="4694400" y="467748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Oval 20"/>
              <p:cNvSpPr/>
              <p:nvPr/>
            </p:nvSpPr>
            <p:spPr>
              <a:xfrm rot="5400000">
                <a:off x="4694760" y="49982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Oval 21"/>
              <p:cNvSpPr/>
              <p:nvPr/>
            </p:nvSpPr>
            <p:spPr>
              <a:xfrm rot="5400000">
                <a:off x="4412160" y="528408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1" name="Group 22"/>
              <p:cNvGrpSpPr/>
              <p:nvPr/>
            </p:nvGrpSpPr>
            <p:grpSpPr>
              <a:xfrm>
                <a:off x="5939640" y="4771440"/>
                <a:ext cx="369000" cy="552240"/>
                <a:chOff x="5939640" y="4771440"/>
                <a:chExt cx="369000" cy="552240"/>
              </a:xfrm>
            </p:grpSpPr>
            <p:sp>
              <p:nvSpPr>
                <p:cNvPr id="382" name="Oval 23"/>
                <p:cNvSpPr/>
                <p:nvPr/>
              </p:nvSpPr>
              <p:spPr>
                <a:xfrm rot="4200000">
                  <a:off x="5973120" y="47937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Oval 24"/>
                <p:cNvSpPr/>
                <p:nvPr/>
              </p:nvSpPr>
              <p:spPr>
                <a:xfrm rot="4200000">
                  <a:off x="6082560" y="509472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4" name="Oval 25"/>
              <p:cNvSpPr/>
              <p:nvPr/>
            </p:nvSpPr>
            <p:spPr>
              <a:xfrm rot="4200000">
                <a:off x="6488280" y="459972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Oval 26"/>
              <p:cNvSpPr/>
              <p:nvPr/>
            </p:nvSpPr>
            <p:spPr>
              <a:xfrm rot="4200000">
                <a:off x="6598080" y="49010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Oval 27"/>
              <p:cNvSpPr/>
              <p:nvPr/>
            </p:nvSpPr>
            <p:spPr>
              <a:xfrm rot="4200000">
                <a:off x="6431040" y="526644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7" name="Group 28"/>
              <p:cNvGrpSpPr/>
              <p:nvPr/>
            </p:nvGrpSpPr>
            <p:grpSpPr>
              <a:xfrm>
                <a:off x="2402640" y="4582440"/>
                <a:ext cx="369000" cy="551880"/>
                <a:chOff x="2402640" y="4582440"/>
                <a:chExt cx="369000" cy="551880"/>
              </a:xfrm>
            </p:grpSpPr>
            <p:sp>
              <p:nvSpPr>
                <p:cNvPr id="388" name="Oval 29"/>
                <p:cNvSpPr/>
                <p:nvPr/>
              </p:nvSpPr>
              <p:spPr>
                <a:xfrm rot="6600000">
                  <a:off x="2545560" y="46047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9" name="Oval 30"/>
                <p:cNvSpPr/>
                <p:nvPr/>
              </p:nvSpPr>
              <p:spPr>
                <a:xfrm rot="6600000">
                  <a:off x="2436120" y="49053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0" name="Oval 31"/>
              <p:cNvSpPr/>
              <p:nvPr/>
            </p:nvSpPr>
            <p:spPr>
              <a:xfrm rot="6600000">
                <a:off x="3067560" y="478836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Oval 32"/>
              <p:cNvSpPr/>
              <p:nvPr/>
            </p:nvSpPr>
            <p:spPr>
              <a:xfrm rot="6600000">
                <a:off x="2958120" y="50900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Oval 33"/>
              <p:cNvSpPr/>
              <p:nvPr/>
            </p:nvSpPr>
            <p:spPr>
              <a:xfrm rot="6600000">
                <a:off x="2594520" y="526140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3" name="Group 34"/>
              <p:cNvGrpSpPr/>
              <p:nvPr/>
            </p:nvGrpSpPr>
            <p:grpSpPr>
              <a:xfrm>
                <a:off x="4774680" y="3809160"/>
                <a:ext cx="369720" cy="552240"/>
                <a:chOff x="4774680" y="3809160"/>
                <a:chExt cx="369720" cy="552240"/>
              </a:xfrm>
            </p:grpSpPr>
            <p:sp>
              <p:nvSpPr>
                <p:cNvPr id="394" name="Oval 35"/>
                <p:cNvSpPr/>
                <p:nvPr/>
              </p:nvSpPr>
              <p:spPr>
                <a:xfrm rot="4200000">
                  <a:off x="4808160" y="383148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Oval 36"/>
                <p:cNvSpPr/>
                <p:nvPr/>
              </p:nvSpPr>
              <p:spPr>
                <a:xfrm rot="4200000">
                  <a:off x="4917960" y="413244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6" name="Oval 37"/>
              <p:cNvSpPr/>
              <p:nvPr/>
            </p:nvSpPr>
            <p:spPr>
              <a:xfrm rot="4200000">
                <a:off x="5323320" y="36374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Oval 38"/>
              <p:cNvSpPr/>
              <p:nvPr/>
            </p:nvSpPr>
            <p:spPr>
              <a:xfrm rot="4200000">
                <a:off x="5433120" y="393912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Oval 39"/>
              <p:cNvSpPr/>
              <p:nvPr/>
            </p:nvSpPr>
            <p:spPr>
              <a:xfrm rot="4200000">
                <a:off x="5266440" y="430416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9" name="Group 40"/>
              <p:cNvGrpSpPr/>
              <p:nvPr/>
            </p:nvGrpSpPr>
            <p:grpSpPr>
              <a:xfrm>
                <a:off x="6146280" y="3590280"/>
                <a:ext cx="369360" cy="551880"/>
                <a:chOff x="6146280" y="3590280"/>
                <a:chExt cx="369360" cy="551880"/>
              </a:xfrm>
            </p:grpSpPr>
            <p:sp>
              <p:nvSpPr>
                <p:cNvPr id="400" name="Oval 41"/>
                <p:cNvSpPr/>
                <p:nvPr/>
              </p:nvSpPr>
              <p:spPr>
                <a:xfrm rot="4200000">
                  <a:off x="6179760" y="361260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1" name="Oval 42"/>
                <p:cNvSpPr/>
                <p:nvPr/>
              </p:nvSpPr>
              <p:spPr>
                <a:xfrm rot="4200000">
                  <a:off x="6289200" y="391320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2" name="Oval 43"/>
              <p:cNvSpPr/>
              <p:nvPr/>
            </p:nvSpPr>
            <p:spPr>
              <a:xfrm rot="4200000">
                <a:off x="6696360" y="341856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Oval 44"/>
              <p:cNvSpPr/>
              <p:nvPr/>
            </p:nvSpPr>
            <p:spPr>
              <a:xfrm rot="4200000">
                <a:off x="6805800" y="372024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Oval 45"/>
              <p:cNvSpPr/>
              <p:nvPr/>
            </p:nvSpPr>
            <p:spPr>
              <a:xfrm rot="4200000">
                <a:off x="6637680" y="4085280"/>
                <a:ext cx="19224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05" name="Group 46"/>
              <p:cNvGrpSpPr/>
              <p:nvPr/>
            </p:nvGrpSpPr>
            <p:grpSpPr>
              <a:xfrm>
                <a:off x="2031480" y="3415680"/>
                <a:ext cx="369360" cy="551880"/>
                <a:chOff x="2031480" y="3415680"/>
                <a:chExt cx="369360" cy="551880"/>
              </a:xfrm>
            </p:grpSpPr>
            <p:sp>
              <p:nvSpPr>
                <p:cNvPr id="406" name="Oval 47"/>
                <p:cNvSpPr/>
                <p:nvPr/>
              </p:nvSpPr>
              <p:spPr>
                <a:xfrm rot="6600000">
                  <a:off x="2174400" y="343764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7" name="Oval 48"/>
                <p:cNvSpPr/>
                <p:nvPr/>
              </p:nvSpPr>
              <p:spPr>
                <a:xfrm rot="6600000">
                  <a:off x="2064960" y="373824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8" name="Oval 49"/>
              <p:cNvSpPr/>
              <p:nvPr/>
            </p:nvSpPr>
            <p:spPr>
              <a:xfrm rot="6600000">
                <a:off x="2696040" y="362160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Oval 50"/>
              <p:cNvSpPr/>
              <p:nvPr/>
            </p:nvSpPr>
            <p:spPr>
              <a:xfrm rot="6600000">
                <a:off x="2586240" y="392328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Oval 51"/>
              <p:cNvSpPr/>
              <p:nvPr/>
            </p:nvSpPr>
            <p:spPr>
              <a:xfrm rot="6600000">
                <a:off x="2223000" y="40946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1" name="Group 52"/>
              <p:cNvGrpSpPr/>
              <p:nvPr/>
            </p:nvGrpSpPr>
            <p:grpSpPr>
              <a:xfrm>
                <a:off x="3318840" y="3628440"/>
                <a:ext cx="369000" cy="551880"/>
                <a:chOff x="3318840" y="3628440"/>
                <a:chExt cx="369000" cy="551880"/>
              </a:xfrm>
            </p:grpSpPr>
            <p:sp>
              <p:nvSpPr>
                <p:cNvPr id="412" name="Oval 53"/>
                <p:cNvSpPr/>
                <p:nvPr/>
              </p:nvSpPr>
              <p:spPr>
                <a:xfrm rot="6600000">
                  <a:off x="3461760" y="36507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3" name="Oval 54"/>
                <p:cNvSpPr/>
                <p:nvPr/>
              </p:nvSpPr>
              <p:spPr>
                <a:xfrm rot="6600000">
                  <a:off x="3352320" y="39513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14" name="Oval 55"/>
              <p:cNvSpPr/>
              <p:nvPr/>
            </p:nvSpPr>
            <p:spPr>
              <a:xfrm rot="6600000">
                <a:off x="3983760" y="383436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Oval 56"/>
              <p:cNvSpPr/>
              <p:nvPr/>
            </p:nvSpPr>
            <p:spPr>
              <a:xfrm rot="6600000">
                <a:off x="3873600" y="413604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Oval 57"/>
              <p:cNvSpPr/>
              <p:nvPr/>
            </p:nvSpPr>
            <p:spPr>
              <a:xfrm rot="6600000">
                <a:off x="3510720" y="430740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Rectangle 58"/>
              <p:cNvSpPr/>
              <p:nvPr/>
            </p:nvSpPr>
            <p:spPr>
              <a:xfrm>
                <a:off x="4403880" y="2212920"/>
                <a:ext cx="309240" cy="1922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" name="Text Box 59"/>
            <p:cNvSpPr/>
            <p:nvPr/>
          </p:nvSpPr>
          <p:spPr>
            <a:xfrm>
              <a:off x="4192560" y="5899320"/>
              <a:ext cx="6174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6875A405-39BC-49CC-B948-A053DCBA1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Knowledge, Skills, and Attitudes Required of an Effective Train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Part 1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85800" y="1981080"/>
            <a:ext cx="80773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ult learning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a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5800" y="3200400"/>
            <a:ext cx="876312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ersonal communication ski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bal ski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•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list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•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•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feed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form skills (ability to speak with inflection, gesture appropriate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 eye conta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 skills (ability to present information in logical order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y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B4ED92BC-F088-4D7D-8E26-8E9863FA59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Knowledge, Skills, and Attitudes Required of an Effective Train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Part 2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762120" y="2251080"/>
            <a:ext cx="6629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to the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to helping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of self effica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C77E57EE-63CD-49A7-94F9-0B97B1FA7E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Implementation Phase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1219320" y="1828800"/>
            <a:ext cx="6899760" cy="338400"/>
            <a:chOff x="1219320" y="1828800"/>
            <a:chExt cx="6899760" cy="338400"/>
          </a:xfrm>
        </p:grpSpPr>
        <p:sp>
          <p:nvSpPr>
            <p:cNvPr id="432" name="Rectangle 4"/>
            <p:cNvSpPr/>
            <p:nvPr/>
          </p:nvSpPr>
          <p:spPr>
            <a:xfrm>
              <a:off x="1219320" y="1828800"/>
              <a:ext cx="67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4156200" y="1861920"/>
              <a:ext cx="99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7283160" y="182880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7"/>
          <p:cNvGrpSpPr/>
          <p:nvPr/>
        </p:nvGrpSpPr>
        <p:grpSpPr>
          <a:xfrm>
            <a:off x="2438280" y="2666880"/>
            <a:ext cx="2273400" cy="3124080"/>
            <a:chOff x="2438280" y="2666880"/>
            <a:chExt cx="2273400" cy="3124080"/>
          </a:xfrm>
        </p:grpSpPr>
        <p:sp>
          <p:nvSpPr>
            <p:cNvPr id="436" name="Rectangle 8"/>
            <p:cNvSpPr/>
            <p:nvPr/>
          </p:nvSpPr>
          <p:spPr>
            <a:xfrm>
              <a:off x="3811320" y="3706920"/>
              <a:ext cx="900360" cy="1212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4011480" y="3962880"/>
              <a:ext cx="43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r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4006800" y="4306680"/>
              <a:ext cx="512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2438280" y="2666880"/>
              <a:ext cx="1279440" cy="1357560"/>
            </a:xfrm>
            <a:custGeom>
              <a:avLst/>
              <a:gdLst>
                <a:gd name="textAreaLeft" fmla="*/ 0 w 1279440"/>
                <a:gd name="textAreaRight" fmla="*/ 1279800 w 127944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746" h="746">
                  <a:moveTo>
                    <a:pt x="0" y="0"/>
                  </a:moveTo>
                  <a:lnTo>
                    <a:pt x="746" y="732"/>
                  </a:lnTo>
                  <a:lnTo>
                    <a:pt x="746" y="74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3614760" y="3903120"/>
              <a:ext cx="183960" cy="19476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7" h="107">
                  <a:moveTo>
                    <a:pt x="107" y="107"/>
                  </a:moveTo>
                  <a:lnTo>
                    <a:pt x="0" y="67"/>
                  </a:lnTo>
                  <a:lnTo>
                    <a:pt x="47" y="53"/>
                  </a:lnTo>
                  <a:lnTo>
                    <a:pt x="60" y="0"/>
                  </a:lnTo>
                  <a:lnTo>
                    <a:pt x="107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2438280" y="3818160"/>
              <a:ext cx="1233360" cy="42660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719" h="235">
                  <a:moveTo>
                    <a:pt x="0" y="0"/>
                  </a:moveTo>
                  <a:lnTo>
                    <a:pt x="719" y="221"/>
                  </a:lnTo>
                  <a:lnTo>
                    <a:pt x="719" y="23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3590640" y="4133880"/>
              <a:ext cx="195480" cy="1605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14" h="88">
                  <a:moveTo>
                    <a:pt x="114" y="74"/>
                  </a:moveTo>
                  <a:lnTo>
                    <a:pt x="0" y="88"/>
                  </a:lnTo>
                  <a:lnTo>
                    <a:pt x="40" y="47"/>
                  </a:lnTo>
                  <a:lnTo>
                    <a:pt x="27" y="0"/>
                  </a:lnTo>
                  <a:lnTo>
                    <a:pt x="11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2473200" y="4403880"/>
              <a:ext cx="1185840" cy="624960"/>
            </a:xfrm>
            <a:custGeom>
              <a:avLst/>
              <a:gdLst>
                <a:gd name="textAreaLeft" fmla="*/ 0 w 1185840"/>
                <a:gd name="textAreaRight" fmla="*/ 1185840 w 118584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692" h="343">
                  <a:moveTo>
                    <a:pt x="0" y="330"/>
                  </a:moveTo>
                  <a:lnTo>
                    <a:pt x="692" y="0"/>
                  </a:lnTo>
                  <a:lnTo>
                    <a:pt x="692" y="14"/>
                  </a:lnTo>
                  <a:lnTo>
                    <a:pt x="0" y="343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3568680" y="4368240"/>
              <a:ext cx="195120" cy="158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4" h="87">
                  <a:moveTo>
                    <a:pt x="114" y="0"/>
                  </a:moveTo>
                  <a:lnTo>
                    <a:pt x="40" y="87"/>
                  </a:lnTo>
                  <a:lnTo>
                    <a:pt x="40" y="34"/>
                  </a:lnTo>
                  <a:lnTo>
                    <a:pt x="0" y="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2438280" y="4624200"/>
              <a:ext cx="1279440" cy="116676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726" h="807">
                  <a:moveTo>
                    <a:pt x="0" y="807"/>
                  </a:moveTo>
                  <a:lnTo>
                    <a:pt x="713" y="0"/>
                  </a:lnTo>
                  <a:lnTo>
                    <a:pt x="726" y="0"/>
                  </a:lnTo>
                  <a:lnTo>
                    <a:pt x="13" y="807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Freeform 18"/>
            <p:cNvSpPr/>
            <p:nvPr/>
          </p:nvSpPr>
          <p:spPr>
            <a:xfrm>
              <a:off x="3603600" y="4527000"/>
              <a:ext cx="182520" cy="208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7" h="115">
                  <a:moveTo>
                    <a:pt x="107" y="0"/>
                  </a:moveTo>
                  <a:lnTo>
                    <a:pt x="74" y="115"/>
                  </a:lnTo>
                  <a:lnTo>
                    <a:pt x="54" y="61"/>
                  </a:lnTo>
                  <a:lnTo>
                    <a:pt x="0" y="48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7" name="Group 19"/>
          <p:cNvGrpSpPr/>
          <p:nvPr/>
        </p:nvGrpSpPr>
        <p:grpSpPr>
          <a:xfrm>
            <a:off x="4724280" y="3581280"/>
            <a:ext cx="1704600" cy="1066680"/>
            <a:chOff x="4724280" y="3581280"/>
            <a:chExt cx="1704600" cy="1066680"/>
          </a:xfrm>
        </p:grpSpPr>
        <p:sp>
          <p:nvSpPr>
            <p:cNvPr id="448" name="Rectangle 20"/>
            <p:cNvSpPr/>
            <p:nvPr/>
          </p:nvSpPr>
          <p:spPr>
            <a:xfrm>
              <a:off x="5365440" y="3581280"/>
              <a:ext cx="1063440" cy="10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21"/>
            <p:cNvSpPr/>
            <p:nvPr/>
          </p:nvSpPr>
          <p:spPr>
            <a:xfrm>
              <a:off x="5695560" y="38120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lo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22"/>
            <p:cNvSpPr/>
            <p:nvPr/>
          </p:nvSpPr>
          <p:spPr>
            <a:xfrm>
              <a:off x="5485320" y="411444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23"/>
            <p:cNvSpPr/>
            <p:nvPr/>
          </p:nvSpPr>
          <p:spPr>
            <a:xfrm>
              <a:off x="4724280" y="4123800"/>
              <a:ext cx="44964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5108400" y="4025160"/>
              <a:ext cx="215280" cy="230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07" h="94">
                  <a:moveTo>
                    <a:pt x="107" y="47"/>
                  </a:moveTo>
                  <a:lnTo>
                    <a:pt x="0" y="94"/>
                  </a:lnTo>
                  <a:lnTo>
                    <a:pt x="26" y="47"/>
                  </a:lnTo>
                  <a:lnTo>
                    <a:pt x="0" y="0"/>
                  </a:lnTo>
                  <a:lnTo>
                    <a:pt x="10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6400800" y="3429000"/>
            <a:ext cx="2133000" cy="1218960"/>
            <a:chOff x="6400800" y="3429000"/>
            <a:chExt cx="2133000" cy="1218960"/>
          </a:xfrm>
        </p:grpSpPr>
        <p:sp>
          <p:nvSpPr>
            <p:cNvPr id="454" name="Rectangle 26"/>
            <p:cNvSpPr/>
            <p:nvPr/>
          </p:nvSpPr>
          <p:spPr>
            <a:xfrm>
              <a:off x="6933240" y="3429000"/>
              <a:ext cx="1600560" cy="1218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27"/>
            <p:cNvSpPr/>
            <p:nvPr/>
          </p:nvSpPr>
          <p:spPr>
            <a:xfrm>
              <a:off x="7315560" y="3656520"/>
              <a:ext cx="83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28"/>
            <p:cNvSpPr/>
            <p:nvPr/>
          </p:nvSpPr>
          <p:spPr>
            <a:xfrm>
              <a:off x="7011000" y="4038120"/>
              <a:ext cx="105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SA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Rectangle 29"/>
            <p:cNvSpPr/>
            <p:nvPr/>
          </p:nvSpPr>
          <p:spPr>
            <a:xfrm>
              <a:off x="6400800" y="4028040"/>
              <a:ext cx="365040" cy="2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6732000" y="3915360"/>
              <a:ext cx="233280" cy="263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08" h="94">
                  <a:moveTo>
                    <a:pt x="108" y="47"/>
                  </a:moveTo>
                  <a:lnTo>
                    <a:pt x="0" y="94"/>
                  </a:lnTo>
                  <a:lnTo>
                    <a:pt x="27" y="47"/>
                  </a:lnTo>
                  <a:lnTo>
                    <a:pt x="0" y="0"/>
                  </a:lnTo>
                  <a:lnTo>
                    <a:pt x="10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9" name="Group 31"/>
          <p:cNvGrpSpPr/>
          <p:nvPr/>
        </p:nvGrpSpPr>
        <p:grpSpPr>
          <a:xfrm>
            <a:off x="6781680" y="4648320"/>
            <a:ext cx="1828440" cy="1364760"/>
            <a:chOff x="6781680" y="4648320"/>
            <a:chExt cx="1828440" cy="1364760"/>
          </a:xfrm>
        </p:grpSpPr>
        <p:sp>
          <p:nvSpPr>
            <p:cNvPr id="460" name="Rectangle 32"/>
            <p:cNvSpPr/>
            <p:nvPr/>
          </p:nvSpPr>
          <p:spPr>
            <a:xfrm>
              <a:off x="6781680" y="4952520"/>
              <a:ext cx="1828440" cy="102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33"/>
            <p:cNvSpPr/>
            <p:nvPr/>
          </p:nvSpPr>
          <p:spPr>
            <a:xfrm>
              <a:off x="7130520" y="5181840"/>
              <a:ext cx="125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34"/>
            <p:cNvSpPr/>
            <p:nvPr/>
          </p:nvSpPr>
          <p:spPr>
            <a:xfrm>
              <a:off x="6858720" y="5486400"/>
              <a:ext cx="167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Rectangle 35"/>
            <p:cNvSpPr/>
            <p:nvPr/>
          </p:nvSpPr>
          <p:spPr>
            <a:xfrm>
              <a:off x="7463160" y="5398920"/>
              <a:ext cx="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Rectangle 36"/>
            <p:cNvSpPr/>
            <p:nvPr/>
          </p:nvSpPr>
          <p:spPr>
            <a:xfrm>
              <a:off x="6933240" y="5571000"/>
              <a:ext cx="2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Rectangle 37"/>
            <p:cNvSpPr/>
            <p:nvPr/>
          </p:nvSpPr>
          <p:spPr>
            <a:xfrm>
              <a:off x="7357320" y="5739120"/>
              <a:ext cx="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Rectangle 38"/>
            <p:cNvSpPr/>
            <p:nvPr/>
          </p:nvSpPr>
          <p:spPr>
            <a:xfrm>
              <a:off x="7658280" y="4648320"/>
              <a:ext cx="30960" cy="17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Freeform 39"/>
            <p:cNvSpPr/>
            <p:nvPr/>
          </p:nvSpPr>
          <p:spPr>
            <a:xfrm>
              <a:off x="7569360" y="4781880"/>
              <a:ext cx="209520" cy="150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107">
                  <a:moveTo>
                    <a:pt x="47" y="107"/>
                  </a:moveTo>
                  <a:lnTo>
                    <a:pt x="0" y="0"/>
                  </a:lnTo>
                  <a:lnTo>
                    <a:pt x="47" y="26"/>
                  </a:lnTo>
                  <a:lnTo>
                    <a:pt x="94" y="0"/>
                  </a:lnTo>
                  <a:lnTo>
                    <a:pt x="47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40"/>
          <p:cNvGrpSpPr/>
          <p:nvPr/>
        </p:nvGrpSpPr>
        <p:grpSpPr>
          <a:xfrm>
            <a:off x="838080" y="2286000"/>
            <a:ext cx="1600200" cy="3622320"/>
            <a:chOff x="838080" y="2286000"/>
            <a:chExt cx="1600200" cy="3622320"/>
          </a:xfrm>
        </p:grpSpPr>
        <p:grpSp>
          <p:nvGrpSpPr>
            <p:cNvPr id="469" name="Group 41"/>
            <p:cNvGrpSpPr/>
            <p:nvPr/>
          </p:nvGrpSpPr>
          <p:grpSpPr>
            <a:xfrm>
              <a:off x="838080" y="2286000"/>
              <a:ext cx="1593720" cy="3622320"/>
              <a:chOff x="838080" y="2286000"/>
              <a:chExt cx="1593720" cy="3622320"/>
            </a:xfrm>
          </p:grpSpPr>
          <p:sp>
            <p:nvSpPr>
              <p:cNvPr id="470" name="Rectangle 42"/>
              <p:cNvSpPr/>
              <p:nvPr/>
            </p:nvSpPr>
            <p:spPr>
              <a:xfrm>
                <a:off x="838080" y="2286000"/>
                <a:ext cx="1514880" cy="750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43"/>
              <p:cNvSpPr/>
              <p:nvPr/>
            </p:nvSpPr>
            <p:spPr>
              <a:xfrm>
                <a:off x="1022400" y="2424600"/>
                <a:ext cx="128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struction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Rectangle 44"/>
              <p:cNvSpPr/>
              <p:nvPr/>
            </p:nvSpPr>
            <p:spPr>
              <a:xfrm>
                <a:off x="1227240" y="2632320"/>
                <a:ext cx="81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Rectangle 45"/>
              <p:cNvSpPr/>
              <p:nvPr/>
            </p:nvSpPr>
            <p:spPr>
              <a:xfrm>
                <a:off x="864720" y="3385440"/>
                <a:ext cx="1503000" cy="749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46"/>
              <p:cNvSpPr/>
              <p:nvPr/>
            </p:nvSpPr>
            <p:spPr>
              <a:xfrm>
                <a:off x="989640" y="3504600"/>
                <a:ext cx="128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struction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47"/>
              <p:cNvSpPr/>
              <p:nvPr/>
            </p:nvSpPr>
            <p:spPr>
              <a:xfrm>
                <a:off x="1066320" y="3733560"/>
                <a:ext cx="1090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quipmen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48"/>
              <p:cNvSpPr/>
              <p:nvPr/>
            </p:nvSpPr>
            <p:spPr>
              <a:xfrm>
                <a:off x="903960" y="4447800"/>
                <a:ext cx="1515600" cy="899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Rectangle 49"/>
              <p:cNvSpPr/>
              <p:nvPr/>
            </p:nvSpPr>
            <p:spPr>
              <a:xfrm>
                <a:off x="1123200" y="4596480"/>
                <a:ext cx="360" cy="4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Rectangle 50"/>
              <p:cNvSpPr/>
              <p:nvPr/>
            </p:nvSpPr>
            <p:spPr>
              <a:xfrm>
                <a:off x="1332000" y="481716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51"/>
              <p:cNvSpPr/>
              <p:nvPr/>
            </p:nvSpPr>
            <p:spPr>
              <a:xfrm>
                <a:off x="1266120" y="502524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52"/>
              <p:cNvSpPr/>
              <p:nvPr/>
            </p:nvSpPr>
            <p:spPr>
              <a:xfrm>
                <a:off x="914760" y="5531040"/>
                <a:ext cx="1517040" cy="377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Rectangle 53"/>
              <p:cNvSpPr/>
              <p:nvPr/>
            </p:nvSpPr>
            <p:spPr>
              <a:xfrm>
                <a:off x="1219680" y="5562000"/>
                <a:ext cx="99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ilities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" name="Text Box 54"/>
            <p:cNvSpPr/>
            <p:nvPr/>
          </p:nvSpPr>
          <p:spPr>
            <a:xfrm>
              <a:off x="1066680" y="447444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inee and Trainer Manual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" name="Rectangle 55"/>
          <p:cNvSpPr/>
          <p:nvPr/>
        </p:nvSpPr>
        <p:spPr>
          <a:xfrm>
            <a:off x="914400" y="6095880"/>
            <a:ext cx="1600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56"/>
          <p:cNvSpPr/>
          <p:nvPr/>
        </p:nvSpPr>
        <p:spPr>
          <a:xfrm>
            <a:off x="914400" y="60958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57"/>
          <p:cNvSpPr/>
          <p:nvPr/>
        </p:nvSpPr>
        <p:spPr>
          <a:xfrm flipV="1">
            <a:off x="2514600" y="4952880"/>
            <a:ext cx="1295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3276720" y="2286000"/>
            <a:ext cx="2209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Development P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62"/>
          <p:cNvSpPr/>
          <p:nvPr/>
        </p:nvSpPr>
        <p:spPr>
          <a:xfrm>
            <a:off x="3657600" y="32004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658EF34-76C0-42D3-B96D-765DA0E5E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990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Experiential Learning Model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Rectangle 46"/>
          <p:cNvSpPr/>
          <p:nvPr/>
        </p:nvSpPr>
        <p:spPr>
          <a:xfrm>
            <a:off x="3581280" y="1981080"/>
            <a:ext cx="2309760" cy="6098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exercise/gam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69"/>
          <p:cNvGrpSpPr/>
          <p:nvPr/>
        </p:nvGrpSpPr>
        <p:grpSpPr>
          <a:xfrm>
            <a:off x="1066680" y="2209680"/>
            <a:ext cx="2544840" cy="2037600"/>
            <a:chOff x="1066680" y="2209680"/>
            <a:chExt cx="2544840" cy="2037600"/>
          </a:xfrm>
        </p:grpSpPr>
        <p:sp>
          <p:nvSpPr>
            <p:cNvPr id="493" name="Rectangle 48"/>
            <p:cNvSpPr/>
            <p:nvPr/>
          </p:nvSpPr>
          <p:spPr>
            <a:xfrm>
              <a:off x="1066680" y="3026880"/>
              <a:ext cx="2309760" cy="599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ry it out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51"/>
            <p:cNvSpPr/>
            <p:nvPr/>
          </p:nvSpPr>
          <p:spPr>
            <a:xfrm flipV="1">
              <a:off x="2209680" y="3660120"/>
              <a:ext cx="0" cy="58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52"/>
            <p:cNvGrpSpPr/>
            <p:nvPr/>
          </p:nvGrpSpPr>
          <p:grpSpPr>
            <a:xfrm>
              <a:off x="2144880" y="2209680"/>
              <a:ext cx="1466640" cy="830880"/>
              <a:chOff x="2144880" y="2209680"/>
              <a:chExt cx="1466640" cy="830880"/>
            </a:xfrm>
          </p:grpSpPr>
          <p:sp>
            <p:nvSpPr>
              <p:cNvPr id="496" name="Line 53"/>
              <p:cNvSpPr/>
              <p:nvPr/>
            </p:nvSpPr>
            <p:spPr>
              <a:xfrm flipV="1">
                <a:off x="2147040" y="2209680"/>
                <a:ext cx="0" cy="83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Line 54"/>
              <p:cNvSpPr/>
              <p:nvPr/>
            </p:nvSpPr>
            <p:spPr>
              <a:xfrm>
                <a:off x="2144880" y="2209680"/>
                <a:ext cx="146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98" name="Group 66"/>
          <p:cNvGrpSpPr/>
          <p:nvPr/>
        </p:nvGrpSpPr>
        <p:grpSpPr>
          <a:xfrm>
            <a:off x="5867280" y="2209680"/>
            <a:ext cx="2392560" cy="2216160"/>
            <a:chOff x="5867280" y="2209680"/>
            <a:chExt cx="2392560" cy="2216160"/>
          </a:xfrm>
        </p:grpSpPr>
        <p:sp>
          <p:nvSpPr>
            <p:cNvPr id="499" name="Rectangle 49"/>
            <p:cNvSpPr/>
            <p:nvPr/>
          </p:nvSpPr>
          <p:spPr>
            <a:xfrm>
              <a:off x="5950080" y="3763800"/>
              <a:ext cx="2309760" cy="662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cturet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rovide informatio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0" name="Group 55"/>
            <p:cNvGrpSpPr/>
            <p:nvPr/>
          </p:nvGrpSpPr>
          <p:grpSpPr>
            <a:xfrm>
              <a:off x="5867280" y="2209680"/>
              <a:ext cx="1231920" cy="1560600"/>
              <a:chOff x="5867280" y="2209680"/>
              <a:chExt cx="1231920" cy="1560600"/>
            </a:xfrm>
          </p:grpSpPr>
          <p:sp>
            <p:nvSpPr>
              <p:cNvPr id="501" name="Line 56"/>
              <p:cNvSpPr/>
              <p:nvPr/>
            </p:nvSpPr>
            <p:spPr>
              <a:xfrm>
                <a:off x="5867280" y="2211840"/>
                <a:ext cx="123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Line 57"/>
              <p:cNvSpPr/>
              <p:nvPr/>
            </p:nvSpPr>
            <p:spPr>
              <a:xfrm>
                <a:off x="7099200" y="2209680"/>
                <a:ext cx="0" cy="156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03" name="Group 68"/>
          <p:cNvGrpSpPr/>
          <p:nvPr/>
        </p:nvGrpSpPr>
        <p:grpSpPr>
          <a:xfrm>
            <a:off x="1066680" y="4038480"/>
            <a:ext cx="2421000" cy="1669680"/>
            <a:chOff x="1066680" y="4038480"/>
            <a:chExt cx="2421000" cy="1669680"/>
          </a:xfrm>
        </p:grpSpPr>
        <p:sp>
          <p:nvSpPr>
            <p:cNvPr id="504" name="Rectangle 47"/>
            <p:cNvSpPr/>
            <p:nvPr/>
          </p:nvSpPr>
          <p:spPr>
            <a:xfrm>
              <a:off x="1066680" y="4038480"/>
              <a:ext cx="2309760" cy="860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zabilit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elevancy to other situations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5" name="Group 58"/>
            <p:cNvGrpSpPr/>
            <p:nvPr/>
          </p:nvGrpSpPr>
          <p:grpSpPr>
            <a:xfrm>
              <a:off x="2209680" y="4874760"/>
              <a:ext cx="1278000" cy="833400"/>
              <a:chOff x="2209680" y="4874760"/>
              <a:chExt cx="1278000" cy="833400"/>
            </a:xfrm>
          </p:grpSpPr>
          <p:sp>
            <p:nvSpPr>
              <p:cNvPr id="506" name="Line 59"/>
              <p:cNvSpPr/>
              <p:nvPr/>
            </p:nvSpPr>
            <p:spPr>
              <a:xfrm flipH="1">
                <a:off x="2209680" y="5707080"/>
                <a:ext cx="127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Line 60"/>
              <p:cNvSpPr/>
              <p:nvPr/>
            </p:nvSpPr>
            <p:spPr>
              <a:xfrm flipV="1">
                <a:off x="2209680" y="4874760"/>
                <a:ext cx="0" cy="83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08" name="Group 67"/>
          <p:cNvGrpSpPr/>
          <p:nvPr/>
        </p:nvGrpSpPr>
        <p:grpSpPr>
          <a:xfrm>
            <a:off x="3505320" y="4343400"/>
            <a:ext cx="3580560" cy="1969560"/>
            <a:chOff x="3505320" y="4343400"/>
            <a:chExt cx="3580560" cy="1969560"/>
          </a:xfrm>
        </p:grpSpPr>
        <p:sp>
          <p:nvSpPr>
            <p:cNvPr id="509" name="Rectangle 50"/>
            <p:cNvSpPr/>
            <p:nvPr/>
          </p:nvSpPr>
          <p:spPr>
            <a:xfrm>
              <a:off x="3505320" y="5410080"/>
              <a:ext cx="2558880" cy="902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nalysis of experience and 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0" name="Group 61"/>
            <p:cNvGrpSpPr/>
            <p:nvPr/>
          </p:nvGrpSpPr>
          <p:grpSpPr>
            <a:xfrm>
              <a:off x="6063840" y="4343400"/>
              <a:ext cx="1022040" cy="1715040"/>
              <a:chOff x="6063840" y="4343400"/>
              <a:chExt cx="1022040" cy="1715040"/>
            </a:xfrm>
          </p:grpSpPr>
          <p:sp>
            <p:nvSpPr>
              <p:cNvPr id="511" name="Line 62"/>
              <p:cNvSpPr/>
              <p:nvPr/>
            </p:nvSpPr>
            <p:spPr>
              <a:xfrm>
                <a:off x="7084440" y="4343400"/>
                <a:ext cx="0" cy="171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Line 63"/>
              <p:cNvSpPr/>
              <p:nvPr/>
            </p:nvSpPr>
            <p:spPr>
              <a:xfrm flipH="1">
                <a:off x="6063840" y="6058440"/>
                <a:ext cx="10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CE2D462A-822B-4F86-8B93-143959AAF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Relationship Between the Experiential Learning Model and Gagne-Briggs Nine Events of instruction— Part 1 of 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the exercise/ga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the exercise provide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sk that gets trainees sharing the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s and becoming v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the proces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ing recall of prior knowledg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ercise, trainees are required to generate ide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information based on prior knowledg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et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ing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ing trainee of the goal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ior to provi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it would be useful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iterate the objective even if it 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en done before the start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ing s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ing stimulus materia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e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21ABDBD-4803-4B5F-A034-F5620E2F1D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Development Phas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1219320" y="2057400"/>
            <a:ext cx="6705720" cy="305280"/>
            <a:chOff x="1219320" y="2057400"/>
            <a:chExt cx="6705720" cy="305280"/>
          </a:xfrm>
        </p:grpSpPr>
        <p:sp>
          <p:nvSpPr>
            <p:cNvPr id="114" name="Rectangle 4"/>
            <p:cNvSpPr/>
            <p:nvPr/>
          </p:nvSpPr>
          <p:spPr>
            <a:xfrm>
              <a:off x="1219320" y="2057400"/>
              <a:ext cx="104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4114800" y="2057400"/>
              <a:ext cx="113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7089120" y="205740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Rectangle 8"/>
          <p:cNvSpPr/>
          <p:nvPr/>
        </p:nvSpPr>
        <p:spPr>
          <a:xfrm>
            <a:off x="979560" y="336708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0400" y="359244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046160" y="380196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930240" y="401472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096920" y="424008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50"/>
          <p:cNvGrpSpPr/>
          <p:nvPr/>
        </p:nvGrpSpPr>
        <p:grpSpPr>
          <a:xfrm>
            <a:off x="685800" y="4952880"/>
            <a:ext cx="1965240" cy="866880"/>
            <a:chOff x="685800" y="4952880"/>
            <a:chExt cx="1965240" cy="866880"/>
          </a:xfrm>
        </p:grpSpPr>
        <p:sp>
          <p:nvSpPr>
            <p:cNvPr id="123" name="Rectangle 16"/>
            <p:cNvSpPr/>
            <p:nvPr/>
          </p:nvSpPr>
          <p:spPr>
            <a:xfrm>
              <a:off x="1144440" y="545940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685800" y="4952880"/>
              <a:ext cx="1965240" cy="866880"/>
              <a:chOff x="685800" y="4952880"/>
              <a:chExt cx="1965240" cy="866880"/>
            </a:xfrm>
          </p:grpSpPr>
          <p:sp>
            <p:nvSpPr>
              <p:cNvPr id="125" name="Rectangle 14"/>
              <p:cNvSpPr/>
              <p:nvPr/>
            </p:nvSpPr>
            <p:spPr>
              <a:xfrm>
                <a:off x="988920" y="5035320"/>
                <a:ext cx="137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909720" y="5248080"/>
                <a:ext cx="1358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structiona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685800" y="4952880"/>
                <a:ext cx="1965240" cy="866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28" name="Group 39"/>
          <p:cNvGrpSpPr/>
          <p:nvPr/>
        </p:nvGrpSpPr>
        <p:grpSpPr>
          <a:xfrm>
            <a:off x="2590920" y="3657600"/>
            <a:ext cx="2680920" cy="1817640"/>
            <a:chOff x="2590920" y="3657600"/>
            <a:chExt cx="2680920" cy="1817640"/>
          </a:xfrm>
        </p:grpSpPr>
        <p:sp>
          <p:nvSpPr>
            <p:cNvPr id="129" name="Rectangle 40"/>
            <p:cNvSpPr/>
            <p:nvPr/>
          </p:nvSpPr>
          <p:spPr>
            <a:xfrm>
              <a:off x="3886200" y="3886200"/>
              <a:ext cx="128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ction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41"/>
            <p:cNvSpPr/>
            <p:nvPr/>
          </p:nvSpPr>
          <p:spPr>
            <a:xfrm>
              <a:off x="4040640" y="419076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3817080" y="3657600"/>
              <a:ext cx="1454760" cy="102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43"/>
            <p:cNvSpPr/>
            <p:nvPr/>
          </p:nvSpPr>
          <p:spPr>
            <a:xfrm>
              <a:off x="2590920" y="4259160"/>
              <a:ext cx="10717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3586680" y="4190760"/>
              <a:ext cx="190440" cy="1461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5" h="92">
                  <a:moveTo>
                    <a:pt x="105" y="46"/>
                  </a:moveTo>
                  <a:lnTo>
                    <a:pt x="0" y="92"/>
                  </a:lnTo>
                  <a:lnTo>
                    <a:pt x="26" y="46"/>
                  </a:lnTo>
                  <a:lnTo>
                    <a:pt x="0" y="0"/>
                  </a:lnTo>
                  <a:lnTo>
                    <a:pt x="10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4599000" y="4716360"/>
              <a:ext cx="166320" cy="1666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2" h="105">
                  <a:moveTo>
                    <a:pt x="46" y="0"/>
                  </a:moveTo>
                  <a:lnTo>
                    <a:pt x="92" y="105"/>
                  </a:lnTo>
                  <a:lnTo>
                    <a:pt x="46" y="79"/>
                  </a:lnTo>
                  <a:lnTo>
                    <a:pt x="0" y="10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2603520" y="4830480"/>
              <a:ext cx="2091240" cy="644760"/>
            </a:xfrm>
            <a:custGeom>
              <a:avLst/>
              <a:gdLst>
                <a:gd name="textAreaLeft" fmla="*/ 0 w 2091240"/>
                <a:gd name="textAreaRight" fmla="*/ 2091600 w 2091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153" h="406">
                  <a:moveTo>
                    <a:pt x="0" y="393"/>
                  </a:moveTo>
                  <a:lnTo>
                    <a:pt x="1139" y="393"/>
                  </a:lnTo>
                  <a:lnTo>
                    <a:pt x="1139" y="0"/>
                  </a:lnTo>
                  <a:lnTo>
                    <a:pt x="1153" y="0"/>
                  </a:lnTo>
                  <a:lnTo>
                    <a:pt x="1153" y="406"/>
                  </a:lnTo>
                  <a:lnTo>
                    <a:pt x="0" y="40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609480" y="3124080"/>
            <a:ext cx="2057400" cy="1640160"/>
            <a:chOff x="609480" y="3124080"/>
            <a:chExt cx="2057400" cy="1640160"/>
          </a:xfrm>
        </p:grpSpPr>
        <p:sp>
          <p:nvSpPr>
            <p:cNvPr id="137" name="Rectangle 13"/>
            <p:cNvSpPr/>
            <p:nvPr/>
          </p:nvSpPr>
          <p:spPr>
            <a:xfrm>
              <a:off x="609480" y="3124080"/>
              <a:ext cx="2057400" cy="159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47"/>
            <p:cNvSpPr/>
            <p:nvPr/>
          </p:nvSpPr>
          <p:spPr>
            <a:xfrm>
              <a:off x="609480" y="3298680"/>
              <a:ext cx="2057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termine Factors that Facilitate Learning &amp; Transf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" name="Rectangle 51"/>
          <p:cNvSpPr/>
          <p:nvPr/>
        </p:nvSpPr>
        <p:spPr>
          <a:xfrm>
            <a:off x="6400800" y="2590920"/>
            <a:ext cx="2133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6477120" y="243828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4"/>
          <p:cNvSpPr/>
          <p:nvPr/>
        </p:nvSpPr>
        <p:spPr>
          <a:xfrm>
            <a:off x="6400800" y="2666880"/>
            <a:ext cx="2133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 Development P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al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al Equi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ee and Trainer Manu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54100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56"/>
          <p:cNvSpPr/>
          <p:nvPr/>
        </p:nvSpPr>
        <p:spPr>
          <a:xfrm>
            <a:off x="61722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62EA471D-11E8-46C7-9D26-FBCA9A984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Relationship Between the Experiential Learning Model and Gagne-Briggs Nine Events of instruction—Part 2 of 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learning guidanc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experienc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s allow the train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explore the previous exper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ie it into what they h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rned. Assess performance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feedbac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b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leva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learning guid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other situ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s on how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learned fits simil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s and see where the n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fits in their schema. T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will clarify where it fits 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vidual trainee’s schema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e of retrieval in different relev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52795C2D-0917-4C46-B40D-67CC67E0E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Relationship Between the Experiential Learning Model and Gagne-Briggs Nine Events of instruction—Part 3 of 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ry it 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citing Perform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actice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lear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More comp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retention and transf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varied example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re practice on different sit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increased likelihood that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learning will not only be retaine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t transfer to the jo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0B65BFAD-4928-45FA-964C-8B5C1CC681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Transfer of Training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pu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762120" y="2209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visor and Peer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31"/>
          <p:cNvSpPr/>
          <p:nvPr/>
        </p:nvSpPr>
        <p:spPr>
          <a:xfrm>
            <a:off x="838080" y="32004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-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f-Effica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38"/>
          <p:cNvSpPr/>
          <p:nvPr/>
        </p:nvSpPr>
        <p:spPr>
          <a:xfrm>
            <a:off x="914400" y="5715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gnment of Reward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39"/>
          <p:cNvSpPr/>
          <p:nvPr/>
        </p:nvSpPr>
        <p:spPr>
          <a:xfrm>
            <a:off x="68580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ve Clim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40"/>
          <p:cNvSpPr/>
          <p:nvPr/>
        </p:nvSpPr>
        <p:spPr>
          <a:xfrm>
            <a:off x="762120" y="4572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pse Prevention and Goal Set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41"/>
          <p:cNvSpPr/>
          <p:nvPr/>
        </p:nvSpPr>
        <p:spPr>
          <a:xfrm>
            <a:off x="762120" y="29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r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2"/>
          <p:cNvSpPr/>
          <p:nvPr/>
        </p:nvSpPr>
        <p:spPr>
          <a:xfrm>
            <a:off x="762120" y="2286000"/>
            <a:ext cx="228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43"/>
          <p:cNvSpPr/>
          <p:nvPr/>
        </p:nvSpPr>
        <p:spPr>
          <a:xfrm>
            <a:off x="762120" y="2895480"/>
            <a:ext cx="2286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44"/>
          <p:cNvSpPr/>
          <p:nvPr/>
        </p:nvSpPr>
        <p:spPr>
          <a:xfrm>
            <a:off x="762120" y="3352680"/>
            <a:ext cx="2286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46"/>
          <p:cNvSpPr/>
          <p:nvPr/>
        </p:nvSpPr>
        <p:spPr>
          <a:xfrm>
            <a:off x="7621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rned K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47"/>
          <p:cNvSpPr/>
          <p:nvPr/>
        </p:nvSpPr>
        <p:spPr>
          <a:xfrm>
            <a:off x="762120" y="411480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48"/>
          <p:cNvSpPr/>
          <p:nvPr/>
        </p:nvSpPr>
        <p:spPr>
          <a:xfrm>
            <a:off x="762120" y="457200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49"/>
          <p:cNvSpPr/>
          <p:nvPr/>
        </p:nvSpPr>
        <p:spPr>
          <a:xfrm>
            <a:off x="762120" y="525780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50"/>
          <p:cNvSpPr/>
          <p:nvPr/>
        </p:nvSpPr>
        <p:spPr>
          <a:xfrm>
            <a:off x="762120" y="5715000"/>
            <a:ext cx="2361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51"/>
          <p:cNvSpPr/>
          <p:nvPr/>
        </p:nvSpPr>
        <p:spPr>
          <a:xfrm>
            <a:off x="3505320" y="3962520"/>
            <a:ext cx="2133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52"/>
          <p:cNvSpPr/>
          <p:nvPr/>
        </p:nvSpPr>
        <p:spPr>
          <a:xfrm>
            <a:off x="3505320" y="3962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Learned KSAs on the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3"/>
          <p:cNvSpPr/>
          <p:nvPr/>
        </p:nvSpPr>
        <p:spPr>
          <a:xfrm>
            <a:off x="5181480" y="5867280"/>
            <a:ext cx="2362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54"/>
          <p:cNvSpPr/>
          <p:nvPr/>
        </p:nvSpPr>
        <p:spPr>
          <a:xfrm>
            <a:off x="5105520" y="5943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lence of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55"/>
          <p:cNvSpPr/>
          <p:nvPr/>
        </p:nvSpPr>
        <p:spPr>
          <a:xfrm>
            <a:off x="6629400" y="388620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56"/>
          <p:cNvSpPr/>
          <p:nvPr/>
        </p:nvSpPr>
        <p:spPr>
          <a:xfrm>
            <a:off x="6705720" y="3886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SAs Transferred to the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7"/>
          <p:cNvSpPr/>
          <p:nvPr/>
        </p:nvSpPr>
        <p:spPr>
          <a:xfrm>
            <a:off x="3048120" y="2438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7772400" y="2438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59"/>
          <p:cNvSpPr/>
          <p:nvPr/>
        </p:nvSpPr>
        <p:spPr>
          <a:xfrm>
            <a:off x="30481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60"/>
          <p:cNvSpPr/>
          <p:nvPr/>
        </p:nvSpPr>
        <p:spPr>
          <a:xfrm>
            <a:off x="5334120" y="2666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61"/>
          <p:cNvSpPr/>
          <p:nvPr/>
        </p:nvSpPr>
        <p:spPr>
          <a:xfrm>
            <a:off x="30481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472428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3048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6"/>
          <p:cNvSpPr/>
          <p:nvPr/>
        </p:nvSpPr>
        <p:spPr>
          <a:xfrm>
            <a:off x="41148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8"/>
          <p:cNvSpPr/>
          <p:nvPr/>
        </p:nvSpPr>
        <p:spPr>
          <a:xfrm>
            <a:off x="34290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69"/>
          <p:cNvSpPr/>
          <p:nvPr/>
        </p:nvSpPr>
        <p:spPr>
          <a:xfrm>
            <a:off x="304812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70"/>
          <p:cNvSpPr/>
          <p:nvPr/>
        </p:nvSpPr>
        <p:spPr>
          <a:xfrm>
            <a:off x="30481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72"/>
          <p:cNvSpPr/>
          <p:nvPr/>
        </p:nvSpPr>
        <p:spPr>
          <a:xfrm flipV="1">
            <a:off x="3886200" y="4800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3"/>
          <p:cNvSpPr/>
          <p:nvPr/>
        </p:nvSpPr>
        <p:spPr>
          <a:xfrm>
            <a:off x="3048120" y="5562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74"/>
          <p:cNvSpPr/>
          <p:nvPr/>
        </p:nvSpPr>
        <p:spPr>
          <a:xfrm flipV="1">
            <a:off x="42670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76"/>
          <p:cNvSpPr/>
          <p:nvPr/>
        </p:nvSpPr>
        <p:spPr>
          <a:xfrm>
            <a:off x="3048120" y="56386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77"/>
          <p:cNvSpPr/>
          <p:nvPr/>
        </p:nvSpPr>
        <p:spPr>
          <a:xfrm flipV="1">
            <a:off x="76960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Line 78"/>
          <p:cNvSpPr/>
          <p:nvPr/>
        </p:nvSpPr>
        <p:spPr>
          <a:xfrm>
            <a:off x="3124080" y="6095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79"/>
          <p:cNvSpPr/>
          <p:nvPr/>
        </p:nvSpPr>
        <p:spPr>
          <a:xfrm>
            <a:off x="487692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Line 80"/>
          <p:cNvSpPr/>
          <p:nvPr/>
        </p:nvSpPr>
        <p:spPr>
          <a:xfrm>
            <a:off x="7543800" y="6172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Line 81"/>
          <p:cNvSpPr/>
          <p:nvPr/>
        </p:nvSpPr>
        <p:spPr>
          <a:xfrm flipV="1">
            <a:off x="845820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82"/>
          <p:cNvSpPr/>
          <p:nvPr/>
        </p:nvSpPr>
        <p:spPr>
          <a:xfrm>
            <a:off x="563868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83"/>
          <p:cNvSpPr/>
          <p:nvPr/>
        </p:nvSpPr>
        <p:spPr>
          <a:xfrm flipV="1">
            <a:off x="5334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4B61B3F2-6A65-4A5A-B5FF-25EB98CB4A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Training Method Effectiveness at Meeting KSA Objectives – Part 1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1889280"/>
          <a:ext cx="883944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1219320"/>
                <a:gridCol w="1066680"/>
                <a:gridCol w="1066680"/>
                <a:gridCol w="1067040"/>
                <a:gridCol w="914400"/>
              </a:tblGrid>
              <a:tr h="291960">
                <a:tc gridSpan="7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bjectives of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Knowled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Attitu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Training Metho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lara- 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-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igh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u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.  Bas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ed  Instru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lligent Tutor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active     Multime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tual Re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u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68"/>
          <p:cNvSpPr/>
          <p:nvPr/>
        </p:nvSpPr>
        <p:spPr>
          <a:xfrm>
            <a:off x="5335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This rating is for lectures delivered orally, printed lectures would be one point higher in each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categ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CBDD755F-3DCC-41EF-8BA6-63F1E15C6A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Training Method Effectiveness at Meeting KSA Objectives – Part 2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280" y="1965240"/>
          <a:ext cx="8839440" cy="3826080"/>
        </p:xfrm>
        <a:graphic>
          <a:graphicData uri="http://schemas.openxmlformats.org/drawingml/2006/table">
            <a:tbl>
              <a:tblPr/>
              <a:tblGrid>
                <a:gridCol w="2130480"/>
                <a:gridCol w="1027080"/>
                <a:gridCol w="1341360"/>
                <a:gridCol w="1105200"/>
                <a:gridCol w="1182600"/>
                <a:gridCol w="1104840"/>
                <a:gridCol w="947880"/>
              </a:tblGrid>
              <a:tr h="309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bjectives of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Knowled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At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Training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lare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-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ulation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e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g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-Bas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havior Mo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76"/>
          <p:cNvSpPr/>
          <p:nvPr/>
        </p:nvSpPr>
        <p:spPr>
          <a:xfrm>
            <a:off x="304920" y="5867280"/>
            <a:ext cx="84582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 If the business game is designed for interpersonal skills, this would be a 4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 If multiple in-baskets were used this rating would be 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 Specifically role reversal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9CF72F72-902E-4CB9-A393-447F19FC0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Training Method Effectiveness at Meeting KSA Objectives – Part 3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86000"/>
          <a:ext cx="8534160" cy="3633840"/>
        </p:xfrm>
        <a:graphic>
          <a:graphicData uri="http://schemas.openxmlformats.org/drawingml/2006/table">
            <a:tbl>
              <a:tblPr/>
              <a:tblGrid>
                <a:gridCol w="1904760"/>
                <a:gridCol w="990720"/>
                <a:gridCol w="1295280"/>
                <a:gridCol w="1067040"/>
                <a:gridCol w="1143000"/>
                <a:gridCol w="1066680"/>
                <a:gridCol w="1066680"/>
              </a:tblGrid>
              <a:tr h="3510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bjectives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At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Training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lare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-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J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en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AB689984-0E28-4AC0-BC4E-D9E9C20A93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Arial"/>
              </a:rPr>
              <a:t>Components of Instructional Strategy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1 of 3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62120" y="2209680"/>
            <a:ext cx="73152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gram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me of Program: Pipe fitting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: Apprentices who have successfully passed the gas fitters ex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Training Objective: Trainees will be able to examine a work project and with appropriate tools; measure, cut, thread, and install the piping according to standards outlined in the gas cod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6BDA1D4-B78C-4CDB-BC86-269E91C89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Arial"/>
              </a:rPr>
              <a:t>Components of Instructional Strategy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2 of 3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2057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71760"/>
                <a:tab algn="l" pos="367200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ing Objectiv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earning Point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Method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terial and A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33520" y="259092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 Using a ta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 Take into 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ectur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nee manu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measure, deter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the extra 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sim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mine the leng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necess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sortment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number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due to 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-inch and 3/4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pipes necess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 Take into 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h fitting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connect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length is reduced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elbows, stre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rnace to the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different fittings,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lbow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meter in a mann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e.g., street elbow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un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that meets the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  union, elbow, etc.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ock meter 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 How to con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urna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appropriate dr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set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for furn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ape measur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note pa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traight Connector 9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traight Connector 11"/>
          <p:cNvSpPr/>
          <p:nvPr/>
        </p:nvSpPr>
        <p:spPr>
          <a:xfrm>
            <a:off x="525780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traight Connector 12"/>
          <p:cNvSpPr/>
          <p:nvPr/>
        </p:nvSpPr>
        <p:spPr>
          <a:xfrm>
            <a:off x="662940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F9ED3894-1CFE-4B3A-A9CB-2BC334570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Arial"/>
              </a:rPr>
              <a:t>Components of Instructional Strategy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3 of 3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880" y="19810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71760"/>
                <a:tab algn="l" pos="367200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ing Objectiv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earning Point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Metho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terial and A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438280"/>
            <a:ext cx="84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494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Use th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 Length of th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Lectur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e manu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machine to c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sim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CR and T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and thread leng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Importanc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ing ta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of pipe 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  cutting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ing machin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reaming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94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ing, and 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 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of th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il Tape measure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e o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8600" y="4952880"/>
            <a:ext cx="3429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ility and configur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n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s to assist transf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of evalua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8"/>
          <p:cNvSpPr/>
          <p:nvPr/>
        </p:nvSpPr>
        <p:spPr>
          <a:xfrm>
            <a:off x="2895480" y="2057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51814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65530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D42B0A3-CB28-445B-BAA8-CC4DD414F4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1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533520" y="2155680"/>
            <a:ext cx="5638320" cy="4321440"/>
            <a:chOff x="533520" y="2155680"/>
            <a:chExt cx="5638320" cy="4321440"/>
          </a:xfrm>
        </p:grpSpPr>
        <p:grpSp>
          <p:nvGrpSpPr>
            <p:cNvPr id="183" name="Group 4"/>
            <p:cNvGrpSpPr/>
            <p:nvPr/>
          </p:nvGrpSpPr>
          <p:grpSpPr>
            <a:xfrm>
              <a:off x="533520" y="5638680"/>
              <a:ext cx="2000160" cy="685800"/>
              <a:chOff x="533520" y="5638680"/>
              <a:chExt cx="2000160" cy="68580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533520" y="5638680"/>
                <a:ext cx="2000160" cy="304920"/>
                <a:chOff x="533520" y="5638680"/>
                <a:chExt cx="2000160" cy="30492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533520" y="5715000"/>
                  <a:ext cx="365040" cy="18252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Text Box 7"/>
                <p:cNvSpPr/>
                <p:nvPr/>
              </p:nvSpPr>
              <p:spPr>
                <a:xfrm>
                  <a:off x="990720" y="5638680"/>
                  <a:ext cx="154296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Train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" name="Text Box 8"/>
              <p:cNvSpPr/>
              <p:nvPr/>
            </p:nvSpPr>
            <p:spPr>
              <a:xfrm>
                <a:off x="533520" y="6019920"/>
                <a:ext cx="19843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  = Easel/char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8" name="Oval 9"/>
            <p:cNvSpPr/>
            <p:nvPr/>
          </p:nvSpPr>
          <p:spPr>
            <a:xfrm>
              <a:off x="4116240" y="5076720"/>
              <a:ext cx="316080" cy="282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3568680" y="3081240"/>
              <a:ext cx="2208240" cy="1976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0" name="Group 11"/>
            <p:cNvGrpSpPr/>
            <p:nvPr/>
          </p:nvGrpSpPr>
          <p:grpSpPr>
            <a:xfrm>
              <a:off x="4900680" y="3100320"/>
              <a:ext cx="1271160" cy="2274480"/>
              <a:chOff x="4900680" y="3100320"/>
              <a:chExt cx="1271160" cy="2274480"/>
            </a:xfrm>
          </p:grpSpPr>
          <p:sp>
            <p:nvSpPr>
              <p:cNvPr id="191" name="Oval 12"/>
              <p:cNvSpPr/>
              <p:nvPr/>
            </p:nvSpPr>
            <p:spPr>
              <a:xfrm>
                <a:off x="5518440" y="310032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5851800" y="361764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Oval 14"/>
              <p:cNvSpPr/>
              <p:nvPr/>
            </p:nvSpPr>
            <p:spPr>
              <a:xfrm>
                <a:off x="5856120" y="424548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Oval 15"/>
              <p:cNvSpPr/>
              <p:nvPr/>
            </p:nvSpPr>
            <p:spPr>
              <a:xfrm>
                <a:off x="5514120" y="476280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Oval 16"/>
              <p:cNvSpPr/>
              <p:nvPr/>
            </p:nvSpPr>
            <p:spPr>
              <a:xfrm>
                <a:off x="4900680" y="509256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6" name="Rectangle 17"/>
            <p:cNvSpPr/>
            <p:nvPr/>
          </p:nvSpPr>
          <p:spPr>
            <a:xfrm rot="900000">
              <a:off x="4768560" y="2739960"/>
              <a:ext cx="474480" cy="282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7" name="Group 18"/>
            <p:cNvGrpSpPr/>
            <p:nvPr/>
          </p:nvGrpSpPr>
          <p:grpSpPr>
            <a:xfrm>
              <a:off x="3161160" y="2763720"/>
              <a:ext cx="1271160" cy="2274480"/>
              <a:chOff x="3161160" y="2763720"/>
              <a:chExt cx="1271160" cy="2274480"/>
            </a:xfrm>
          </p:grpSpPr>
          <p:sp>
            <p:nvSpPr>
              <p:cNvPr id="198" name="Oval 19"/>
              <p:cNvSpPr/>
              <p:nvPr/>
            </p:nvSpPr>
            <p:spPr>
              <a:xfrm rot="10800000">
                <a:off x="3498840" y="475596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Oval 20"/>
              <p:cNvSpPr/>
              <p:nvPr/>
            </p:nvSpPr>
            <p:spPr>
              <a:xfrm rot="10800000">
                <a:off x="3165480" y="423864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21"/>
              <p:cNvSpPr/>
              <p:nvPr/>
            </p:nvSpPr>
            <p:spPr>
              <a:xfrm rot="10800000">
                <a:off x="3161160" y="361080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Oval 22"/>
              <p:cNvSpPr/>
              <p:nvPr/>
            </p:nvSpPr>
            <p:spPr>
              <a:xfrm rot="10800000">
                <a:off x="3503160" y="309348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Oval 23"/>
              <p:cNvSpPr/>
              <p:nvPr/>
            </p:nvSpPr>
            <p:spPr>
              <a:xfrm rot="10800000">
                <a:off x="4116600" y="276372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" name="Text Box 24"/>
            <p:cNvSpPr/>
            <p:nvPr/>
          </p:nvSpPr>
          <p:spPr>
            <a:xfrm>
              <a:off x="4502160" y="2155680"/>
              <a:ext cx="3160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4118040" y="5629320"/>
              <a:ext cx="9475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37:07Z</dcterms:created>
  <dc:creator>shawn</dc:creator>
  <dc:description/>
  <dc:language>en-US</dc:language>
  <cp:lastModifiedBy>Mami</cp:lastModifiedBy>
  <dcterms:modified xsi:type="dcterms:W3CDTF">2009-07-23T04:31:59Z</dcterms:modified>
  <cp:revision>104</cp:revision>
  <dc:subject/>
  <dc:title>Percent of Full Time Workers Reporting Occupational Injuries/ Illness in Private Industry</dc:title>
</cp:coreProperties>
</file>